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DAEA-EC6F-4159-BE57-8821BA13C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021B-EC7C-4F4C-8B2C-01F8A3D4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7C70-45F0-4388-8C2C-78793D5A0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0D02-EA84-49BC-B726-73D684709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6DBB-7944-44A2-B3FF-8679F901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8B26-E689-4D33-9E1C-1D0DA96C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1BCB-A79C-4611-AAA0-DCAE37D6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ACD4-D9FA-4F4E-84A5-84CE22D4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23F7-4F24-430A-AF63-2A8C40EF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B323-AB4B-4092-AE5D-3D89EB29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8D3D-56BD-4A24-A413-1E5D8669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EF2C-61AD-4305-BFC1-FAEB93AD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CC03-F2F6-4B13-808A-1C1EF78A2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029200"/>
            <a:ext cx="8001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4800600"/>
            <a:ext cx="739116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اليوم، عُلّقَ على خشب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الذي علَّقَ الأرضَ على الميا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4572000" cy="90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إكليلٌ من شوك وُضِعَ على هامةِ ملكِ الملائك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برفيراً كاذبا أُلبِسَ، الذي وشَّح السماءَ بالغيوم </a:t>
            </a:r>
            <a:r>
              <a:rPr b="0" lang="ar-SA" sz="5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4114800" cy="85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قبِلَ لطمةً ، الذي أعتقَ آدمَ في الأُرد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ختَنُ البيعةِ سُمِّرَ بالمسامي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وابن العذراءِ طُعِنَ بحربةٍ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304920"/>
            <a:ext cx="2895840" cy="85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9999ff"/>
                </a:solidFill>
                <a:latin typeface="Times New Roman"/>
                <a:cs typeface="Simplified Arabic"/>
              </a:rPr>
              <a:t>نسجدُ لآلِمِكَ أيها المسيح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9999ff"/>
                </a:solidFill>
                <a:latin typeface="Times New Roman"/>
                <a:cs typeface="Times New Roman"/>
              </a:rPr>
              <a:t>فأَرِنا قيامَتَكَ المجيدة</a:t>
            </a:r>
            <a:r>
              <a:rPr b="0" lang="ar-S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06:47:04Z</dcterms:created>
  <dc:creator>SUZANNE.MD</dc:creator>
  <dc:description/>
  <dc:language>en-US</dc:language>
  <cp:lastModifiedBy>HANI SAFI</cp:lastModifiedBy>
  <dcterms:modified xsi:type="dcterms:W3CDTF">2003-04-16T13:52:11Z</dcterms:modified>
  <cp:revision>2</cp:revision>
  <dc:subject/>
  <dc:title>PowerPoint Presentation</dc:title>
</cp:coreProperties>
</file>